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CFB7-009B-4C2F-9289-07470EF3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A5F4-9A30-446F-98DB-4621AB59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C22-854C-4D53-A4A7-0B2752C7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5EB-45B6-47B0-B424-36E1381F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BC9-2383-4AB7-99AB-1768C047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BB04-7E46-4BB1-8BBC-43FF0861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039-F1F4-42C9-B486-7519B954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AF1-FCDA-412B-9D90-E369E03A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6B7-D665-4BC8-AE11-0D24F14D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5C7-AF42-47DC-A284-E0909154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C8F-D38F-47C3-B1AF-3C73122D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FDFD-01A4-43E5-A372-37BD21B8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495D-356C-48D0-84C0-48535CBFAC58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22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    Dr. Ralf Schol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e Ulm / Aalborg (1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Ul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next schedule for negotiation set to 23rd of Ma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HW-pool will be established to transfer equipment in a sufficient way and reduce cost of wasting and new invest; Team assistance are working on this with the basis of the asset list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e Ulm / Aalborg (2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albor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ist of named engineers that is part of the contract was reworked aligned with Motorola in accordance to the need of BenQ Mobi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ssets are accounted as inventory of BenQ Denmark APS, transfer of equipment is proposed on basis of the book value and has to be handled as inves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W-contracts intended to be transferred are CST Microwave Studio, PTC Intercomm Browser, Orcad Unison EE/PCB, Synopsys, R&amp;S maintenance contracts. Decision of Motorola depends on cost situation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ease agreement for remaining engineers as well as customer care, server room and storage area are verbal done. Contract is under preparation. Moving could be already do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erver room, WAN/LAN connection for project finishing are nearly finished; moving is planed for 25th to 28th of Ma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T application data transfer is ongoing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handover on several projects already do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moval of BenQ asset out of the building transferred to Motorola started. Lars Bonde is responsible as project manger for this issu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cholzR</cp:lastModifiedBy>
  <dcterms:modified xsi:type="dcterms:W3CDTF">2006-05-21T10:21:53Z</dcterms:modified>
  <cp:revision>54</cp:revision>
  <dc:subject/>
  <dc:title>PowerPoint 簡報</dc:title>
</cp:coreProperties>
</file>